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7271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7271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7271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7271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7271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7271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99cc"/>
            </a:gs>
            <a:gs pos="50000">
              <a:srgbClr val="0088b6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79" name="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1" name="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2" name="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" name="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7" name="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" name="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7" name="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" name="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0" name="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hapter 21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OWARD EMPIR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0" y="43434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America Past and Pres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Eighth Edition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 algn="ctr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Divine  </a:t>
            </a:r>
            <a:r>
              <a:rPr b="0" lang="en-US" sz="1800" spc="-1" strike="noStrike">
                <a:solidFill>
                  <a:srgbClr val="eaeaea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 Breen  </a:t>
            </a:r>
            <a:r>
              <a:rPr b="0" lang="en-US" sz="1800" spc="-1" strike="noStrike">
                <a:solidFill>
                  <a:srgbClr val="eaeaea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 Fredrickson  </a:t>
            </a:r>
            <a:r>
              <a:rPr b="0" lang="en-US" sz="1800" spc="-1" strike="noStrike">
                <a:solidFill>
                  <a:srgbClr val="eaeaea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 Williams  </a:t>
            </a:r>
            <a:r>
              <a:rPr b="0" lang="en-US" sz="1800" spc="-1" strike="noStrike">
                <a:solidFill>
                  <a:srgbClr val="eaeaea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 Gross  </a:t>
            </a:r>
            <a:r>
              <a:rPr b="0" lang="en-US" sz="1800" spc="-1" strike="noStrike">
                <a:solidFill>
                  <a:srgbClr val="eaeaea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 Bran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6578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 War for Princi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ebruary, 1895: Rebellion in Cub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"Yellow press" whipped up U.S. sentiment to favor Cuban independe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cKinley gained Spanish concession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ebruary, 1898: Explosion of the Mai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ril, 19: Congress declared Cuba independent, passed "Teller Amendment"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ril, 25: U.S. declared war on Spai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"A Splendid Little War"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.S. regular army small, ill-prepared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blems of equipment and supp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gulars possessed latest Krag-Jorgensen rif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uard units possessed old Springfield rif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soldiers fight in National Guard uni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moked Yankees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frican Americans served in army Guard uni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lack troops resisted segreg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frican American soldiers won 26 Certificates of Merit, 5 Congressional Medals of Hon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Course of the W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, 1: Commodore George Dewey captured Manila Ba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une: Cuba inva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uly: Santiago surrendered, Puerto Rico occupi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ugust, 13: Philippines surrende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anish-American War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cific Theat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203560" y="1905120"/>
            <a:ext cx="4527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panish-American War: Caribbean Theate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3222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cquisition of Empi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ate of the Philippines was the thorniest issue at the peace negoti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cember, 1898: Treaty of Par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uba independ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.S. acquires Puerto Rico, Guam, Philippi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Treaty of Paris Deba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bate over annexation of the Philippine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pponents formed the Anti-Imperialist Leag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gainst big armies, government, and deb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publican ideals incompatible with imperialism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ebruary, 1899: Ratification of peace treaty made U.S. a colonizing n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merican Empire, 19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8580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uerrilla Warfare in the Philippin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898–1901: Emilio Aguinaldo led Philippine independence mov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lipinos used guerilla war tactics, U.S. adopted tactics Spanish used in Cub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901: U.S. replaced military with civil rul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ocal self-government permitt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chedule established for independ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uly 4, 1946: Philippine independe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merica Looks Outwar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.S. expansion shifted after 189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rategically placed islands taken, intended only as colonie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orld Colonial Empires, 19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overning the Empi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preme Court permitted selective application of Constitution to new territor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waii, Alaska, Puerto Rico organized as territories, inhabitants made U.S. citize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vy controlled Guam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uban constitution ended U.S. occup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latt Amendment: U.S. given right to intervene in Cuban affai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Open Do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rch, 1900: "Open Door" policy in Chi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European nation should carve out a sphere of influence in China and exclude others from trading in the are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pite American claims to the contrary, other countries did not accept 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opened the potential for later conflict with expansion-minded powers in Pacific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come of the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r with Spai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ddy Roosevelt a war her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t back the cause of civil rights for African American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firmed Republicans as majority par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.S. soldiers stationed outside the count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tching the Spirit of Empi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mestic concerns dominated the post-Civil War yea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870s brought new interest in areas beyond U.S. boundar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rnationalism began to replace nationalis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asons for Expan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pansion abroad sought to gain marke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volutionary ideas encouraged expansion to give guidance to native peoples else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issionary spirit expressed in Josiah Strong's popula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Our Country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(1885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reign Policy Approaches: 1867–19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pansionist foreign poli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cquisitions: Alaska, Midway Island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roded European influence in Latin Amer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verted Latin American trade from Europe through a series of reciprocity treatie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.S. supported Venezuela against Great Britai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Lure of Hawaii and Samo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875: U.S. granted Hawaiian sugar free entry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Queen Liliuokalani retaliated for McKinley Tariff, attempted to reduce U.S. influe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893: American settlers pulled off coup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898: Hawaii made U.S.  posses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872: U.S. granted port facilities in Samo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899: U.S. shared control with German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awaiian Islan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76520" y="1782720"/>
            <a:ext cx="586728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New Nav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fred Mahan argued that overseas markets were essential for industrial surplu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rge merchant marine, strong navy needed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889: Secretary of Navy Benjamin Tracy supervised a program of naval construction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.S. gained offensive capability at se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8b6"/>
            </a:gs>
            <a:gs pos="50000">
              <a:srgbClr val="0099cc"/>
            </a:gs>
            <a:gs pos="100000">
              <a:srgbClr val="0088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r with Spai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war increased overseas possession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 also gained the U.S. recognition as a “world power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mericans became convinced they had a special destin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5T20:32:20Z</dcterms:created>
  <dc:creator>Timothy Hall</dc:creator>
  <dc:description/>
  <cp:keywords/>
  <dc:language>en-US</dc:language>
  <cp:lastModifiedBy>Teresa Ward User</cp:lastModifiedBy>
  <cp:lastPrinted>2012-09-11T10:32:31Z</cp:lastPrinted>
  <dcterms:modified xsi:type="dcterms:W3CDTF">2006-11-09T18:51:12Z</dcterms:modified>
  <cp:revision>10</cp:revision>
  <dc:subject/>
  <dc:title>CHAPTER 21 TOWARD EMPIRE</dc:title>
</cp:coreProperties>
</file>